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354-A0BC-43FA-9290-4476F19F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209-CE0F-4B26-B1E2-099C0F10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088C-3199-44CA-A0B8-20C05E14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597-BFEF-4C77-AD7C-F95BB7B7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20A-4F99-4854-AAA1-0449EB92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1E8-A8BC-449A-A491-BC778D24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DFF-B9C5-499B-AA43-9E709F4F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1D9-6B1F-43EF-80A8-D354ACB9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C51-3F83-4504-AA25-5EF33647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D22-F8F2-459E-BB90-34A8DB6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CE0-4B65-4A26-A93B-6E653C3A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BE0-7A1B-45D5-B8C6-8728E00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9664-B4D4-4651-AEDD-C003A9005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ritannica.com/ebc/art-60421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ller"/>
              </a:rPr>
              <a:t>Reproductive Clon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Dolly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  <a:ea typeface="Kozuka Gothic Pro H"/>
              </a:rPr>
              <a:t>Varun and Elizab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28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Guinea pigs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humans are not guinea pigs, nobody has the right to carry out experiments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Technological terror objections (10,000 Hitler objection)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e soldiers, fear that’s been generated through science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Identify of life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ing people threatens personal identity, easier to get out of bed in the morning knowing they a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Selfishness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many people believe there is no reason to clone children when there are so many waiting for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hiller"/>
              </a:rPr>
              <a:t>Technology Us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omatic cell nuclear transfer (SC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As the procedure currently cannot be automated, it must be performed under a micro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215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iller"/>
              </a:rPr>
              <a:t>Potential Benefits To Socie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Agricultural Benefit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attle and other livestock that contain beneficial characteristics that will increase the health of livestock as well as consumer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Life-Saving Technology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Organs and tissues like hearts and livers could perhaps be cloned (tissue enginee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ller"/>
              </a:rPr>
              <a:t>Interesting Fac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Jurassic Park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was made to emphasize the risk involved in cl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ome scientists believe that clon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will never work for huma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while others stat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human cloning is easier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to do that animal cl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1320" y="4800600"/>
            <a:ext cx="26668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Bibliograph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" Online Art. Encyclopædia Britannica Online. 25  Feb.  2008  &lt;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ritannica.com/ebc/art-604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Human Genome Project Information."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loning Fact She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9 08. 2006. Human Genome Project. 25 02. 2008 &lt;http://www.ornl.gov/sci/techresources/Human_Genome/elsi/cloning.shtml#risks&gt;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fe, Alonzo. "Against a Prohibition on Cloning."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Reproductive Cloning Netw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6 Feb. 2008 &lt;http://www.reproductivecloning.net/Articles/fyfe.htm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omatic Cell Nuclear Transfer."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kiped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6 Feb. 2008 &lt;http://en.wikipedia.org/wiki/Therapeutic_cloning#SCNT_in_reproductive_cloning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What is Reproductive Clo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Technology used to generate an animal that has the same DNA as another currently or previously existing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Dolly the sheep was created by reproductive cloning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07656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00600" y="6415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fornian FB"/>
              </a:rPr>
              <a:t>First dog clone (Afghan H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iller"/>
              </a:rPr>
              <a:t>How does it work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Scientists use “</a:t>
            </a:r>
            <a:r>
              <a:rPr b="0" lang="en-US" sz="2400" spc="-1" strike="noStrike">
                <a:solidFill>
                  <a:srgbClr val="333399"/>
                </a:solidFill>
                <a:latin typeface="Californian FB"/>
              </a:rPr>
              <a:t>somatic cell nuclear transfer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” (SC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Transfer genetic material from the nucleus of a donor adult cell to an egg whose nucleus (so its genetic material) has been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Reconstructed egg containing the transferred DNA is treated with chemicals or electric current to </a:t>
            </a:r>
            <a:r>
              <a:rPr b="0" lang="en-US" sz="2400" spc="-1" strike="noStrike">
                <a:solidFill>
                  <a:srgbClr val="333399"/>
                </a:solidFill>
                <a:latin typeface="Californian FB"/>
              </a:rPr>
              <a:t>stimulate cell division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Once the cloned embryo reaches a suitable stage, it is transferred to the uterus of a female host where it continues to develop until bi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hiller"/>
              </a:rPr>
              <a:t>     </a:t>
            </a:r>
            <a:r>
              <a:rPr b="0" lang="en-US" sz="8000" spc="-1" strike="noStrike">
                <a:solidFill>
                  <a:srgbClr val="000000"/>
                </a:solidFill>
                <a:latin typeface="Chiller"/>
              </a:rPr>
              <a:t>The Clone!</a:t>
            </a: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Dolly or any animal created using nuclear transfer technology is not truly an identical clone of the don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Only clone’s nuclear DNA is the sam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Some of the clone’s genetic material comes from the mitochond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Mutations in the mitochondr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DNA are believed to play 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important role in the aging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2924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24480" y="4114800"/>
            <a:ext cx="1670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hiller"/>
              </a:rPr>
              <a:t>Relevance to Societ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Can increase the population of endangered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Lots of controversy over the issue: it has risks and is highly inefficient. Over 90% of cloning attempts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3047760" cy="2031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6400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fornian FB"/>
              </a:rPr>
              <a:t>Red panda – an endangered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ller"/>
              </a:rPr>
              <a:t>Ethical Considerat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Defective child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e child could be imperfect (suffering from def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Medical safety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born wi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Religious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ing is “playing God,” clone will have no “soul,” something less than fully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Slavery and spare parts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es that are created will either be treated as a slave or her body parts will be chopped up and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Objects of potential discrimination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discrimination against c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0:44:05Z</dcterms:created>
  <dc:creator>ICT Office</dc:creator>
  <dc:description/>
  <dc:language>en-US</dc:language>
  <cp:lastModifiedBy>ICT Office</cp:lastModifiedBy>
  <dcterms:modified xsi:type="dcterms:W3CDTF">2008-02-28T11:56:29Z</dcterms:modified>
  <cp:revision>3</cp:revision>
  <dc:subject/>
  <dc:title>Reproductive Cloning</dc:title>
</cp:coreProperties>
</file>